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34A-3968-4B6A-A70F-C21E4B0D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BDE-00E5-4ECA-ADAE-941CCE91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C55-D575-4C35-9BEA-0C188E83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382-6488-4E80-B465-A7FA8FC4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EE9-4522-492C-8C4A-4765EEFD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6D7-8BF0-4E58-AB79-05CA2B7B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819-78C6-4913-9B09-43935440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727-1745-4AA9-AB75-947FC9CE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484-B5D1-482C-A73E-061F413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226-9504-410F-8021-2605AA7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07B-5D53-4A3C-BFD3-F0C156A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D10-3438-4C81-94B8-2402A83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A24-2237-4706-BD45-37E7ECC07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рби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ц. Др Татјана 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оста врста различитог тки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имарни или секундар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Бенигни или малиг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сеудотумо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ЗВ орбите, ЦТ, НМ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линичка слика: дислокација очне јабучице, смањена покретљивост, хемоза вежњаче, бол, промењен видна оштрина, секундарни глауком,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истолошка верифик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рапија: конзилијарна одлу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одрасл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сеудотумори-хистолошка верификација- лечење:конзервати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ро прогресивна лезија- ЦТ НМР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лимфом орбите- хематолог и биопсија- цитостатск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тогене метастазе- карцином дојке, бронха, меланом ко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Нон Хочкинов лимфом-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бдомиосарком- 3-10 година старости; унилатрална протрузија, брз ток; хистолошка верификација; цитостатици и зрачна терапија, евентуално хирурш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уробластом- секундарни тумор; брзо напредујућа протрузија, оток капака, хемоза вежњаче; ЦТ ретроперитонеума,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натано повалачење...хируршки уколико угрожава вид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каз клиничког 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цијенткиња стара 43 године која се жали да јој једно око делује као да је веће од другог у последњих 3-4 месеца. Бол у дубини леве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ична анамнеза: негира болести од значаја. Негира алергију на храну и леко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ородична анамнеза: мајка је оперисала штитасту жлез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адашња болест: пацијенткиња наводи да је приметила да јој је једно око веће од другог у последње време. Наводи да повремено осећа лупање срца, да се мало више зноји и да је смршала у последње врем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VOD: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VOS: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TOD: 17mmH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TOS: 19mmH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SLOD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лаз уред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SLOS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ротрузија очне јабучице пут напред, ивица горњег капка се налази на 2 мм од лимбуса рожњаче, хиперемија ве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FOD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PNO-b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FOS: PNO-b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нсултативни преглед ендокринолога- хормонски статус штитасте жлез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ртел егзофталмометрија- 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: 17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, 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S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20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, база 101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хо орбите- увећање правих мишића уз увећање ретробулбарног масног ткива, без знакова фибро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RI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рбит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Dg: Hypertyreodismus. Ophthalmopathia Gra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vezbe 3\Graves.jpg"/>
          <p:cNvPicPr/>
          <p:nvPr/>
        </p:nvPicPr>
        <p:blipFill>
          <a:blip r:embed="rId1"/>
          <a:stretch/>
        </p:blipFill>
        <p:spPr>
          <a:xfrm>
            <a:off x="533520" y="1523880"/>
            <a:ext cx="285732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F:\vezbe 3\440px-Graves_Ophthalmopathy_MRT_01.jpg"/>
          <p:cNvPicPr/>
          <p:nvPr/>
        </p:nvPicPr>
        <p:blipFill>
          <a:blip r:embed="rId2"/>
          <a:stretch/>
        </p:blipFill>
        <p:spPr>
          <a:xfrm>
            <a:off x="5334120" y="457200"/>
            <a:ext cx="281772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F:\vezbe 3\Img2946_52_low.jpg"/>
          <p:cNvPicPr/>
          <p:nvPr/>
        </p:nvPicPr>
        <p:blipFill>
          <a:blip r:embed="rId3"/>
          <a:stretch/>
        </p:blipFill>
        <p:spPr>
          <a:xfrm>
            <a:off x="685800" y="37339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:\vezbe 3\index.jpg"/>
          <p:cNvPicPr/>
          <p:nvPr/>
        </p:nvPicPr>
        <p:blipFill>
          <a:blip r:embed="rId4"/>
          <a:stretch/>
        </p:blipFill>
        <p:spPr>
          <a:xfrm>
            <a:off x="5410080" y="4267080"/>
            <a:ext cx="264816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докринолошка терапија-тиреосупреси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улсне дозе кортикостреоида, уколико су позитивна антитиреоглобулинска антитела а нема знакова фиброзе правих мишића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компресија орбите (преко латералног зида орбите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каз клиничког 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 стар 72 године наводи да му је у неколико последњих дана око црвено и да га боли и да се знатно повећал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ична анамнеза: болује од ХТА. Негира алергију на храну и леко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родична анамнеза: негира болести од знач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адашња болест: у последњих десетак дана је пације приметио да му се чини као да му је десно око порасло, а у последњих 3-4 дана му је око поцрвене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VOD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VOS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OD: 1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mH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OS: 1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mH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SLOD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отрузија очне јабучице доле и темпорално, хиперемија булбарне вежњаче, тачкаста епителиопатија рожњаче, почетна нуклеарна скра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SLOS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почетна нуклеарна скра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FOD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F. hypertonic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FOS: F. hypertonic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атом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Четворстрана положена пирамида са базом према напред, а врх према позад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аза- 40х35мм, прекривена капц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рх-удаљен од базе 40-50мм, отвор оптичког нер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апремина 3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Четири зида-7 кост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пецифичност положаја орбите-комуникација са ендокранијумом-пропагација проце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вна слика- поремећај у белој ло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нсултативни преглед хематоло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Хертел егзофталмометрија- О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: 22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, О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: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, база 105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Ехо орбите- у предњем делу орбите горе и назално се уочава мекоткивна сенка-средње рефле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иопсија промене са патохистолошком верификациј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RI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орбит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Dg OD: Tu intraorbitale-Lymphoma orbita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F:\vezbe 3\lim 1.jpg"/>
          <p:cNvPicPr/>
          <p:nvPr/>
        </p:nvPicPr>
        <p:blipFill>
          <a:blip r:embed="rId1"/>
          <a:stretch/>
        </p:blipFill>
        <p:spPr>
          <a:xfrm>
            <a:off x="609480" y="304920"/>
            <a:ext cx="284796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F:\vezbe 3\limf 2.png"/>
          <p:cNvPicPr/>
          <p:nvPr/>
        </p:nvPicPr>
        <p:blipFill>
          <a:blip r:embed="rId2"/>
          <a:stretch/>
        </p:blipFill>
        <p:spPr>
          <a:xfrm>
            <a:off x="3809880" y="1523880"/>
            <a:ext cx="4762800" cy="413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F:\vezbe 3\limf 4.jpg"/>
          <p:cNvPicPr/>
          <p:nvPr/>
        </p:nvPicPr>
        <p:blipFill>
          <a:blip r:embed="rId3"/>
          <a:stretch/>
        </p:blipFill>
        <p:spPr>
          <a:xfrm>
            <a:off x="838080" y="2514600"/>
            <a:ext cx="2492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атолошк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штачке сузе, маст, оклуз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26e3b744d501d98740390d1090c86216--orbit-anato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orbita.jpg"/>
          <p:cNvPicPr/>
          <p:nvPr/>
        </p:nvPicPr>
        <p:blipFill>
          <a:blip r:embed="rId1"/>
          <a:stretch/>
        </p:blipFill>
        <p:spPr>
          <a:xfrm>
            <a:off x="1630440" y="1600200"/>
            <a:ext cx="588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адржај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чна јабучица- 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тички не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шићи покретачи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зна жлез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сно тк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рви, крвни и лимфни суд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ложај очне јабучице у орби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ентрал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конусу очних мишића, који је са свих страна обавијен масним ткив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нофталмус-физиолошки и патолошк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гзофталмус-једностран, обостран, интермитентни, пулзирајући, псеудоегзофталмус (Грејвс Базедовљева болест, гојазност, крварења у орбити, тумори у орбити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 обољења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мнеза- бол и брзина развоја ( тумори, запаљења, крварења, 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гзофталмометрија- по Хертелу. Растојање врха рожњаче од спољашње ивице орбите. 20м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симетрија већа од 2мм; више од 8мм-постојање тум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иомикроскопија- боја коже капака, постојање хиперемије вежњаче, проширење еписклералних крвних суд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фталмоскопија- промене на ретине или очном живцу-ст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hertel.jpg"/>
          <p:cNvPicPr/>
          <p:nvPr/>
        </p:nvPicPr>
        <p:blipFill>
          <a:blip r:embed="rId1"/>
          <a:stretch/>
        </p:blipFill>
        <p:spPr>
          <a:xfrm>
            <a:off x="7194600" y="5489640"/>
            <a:ext cx="1949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Рентгенографија орбите- прелом зидова орбите, сумња на интраорбитално страно тел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хографија орбите- откривање и праћење експанзивних процеса у орбити, без штетних последица. (обољење штитасте жлезд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-за откривање промена у меким и коштаним структурама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уклерана магнетна резонанца- за мекоткивне пром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нгиографија-повреде, АВ фистуле, венски варикозите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паљенске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фективни агенс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Celullitis orbitae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кутно, негнојно запаљ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легмона-гнојно запаљ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псцес- локализовано накупљање гнојне колекције у појединим деловима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диопатски инфламаторни синдром орбите-псеудотумо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cellulitis 1.jpg"/>
          <p:cNvPicPr/>
          <p:nvPr/>
        </p:nvPicPr>
        <p:blipFill>
          <a:blip r:embed="rId1"/>
          <a:stretch/>
        </p:blipFill>
        <p:spPr>
          <a:xfrm>
            <a:off x="7086600" y="3886200"/>
            <a:ext cx="1663560" cy="11160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3" descr="absceus.gif"/>
          <p:cNvPicPr/>
          <p:nvPr/>
        </p:nvPicPr>
        <p:blipFill>
          <a:blip r:embed="rId2"/>
          <a:stretch/>
        </p:blipFill>
        <p:spPr>
          <a:xfrm>
            <a:off x="6400800" y="0"/>
            <a:ext cx="2400480" cy="20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in7</dc:creator>
  <dc:description/>
  <dc:language>en-US</dc:language>
  <cp:lastModifiedBy>Windows User</cp:lastModifiedBy>
  <dcterms:modified xsi:type="dcterms:W3CDTF">2020-09-26T16:57:09Z</dcterms:modified>
  <cp:revision>7</cp:revision>
  <dc:subject/>
  <dc:title>Орбита</dc:title>
</cp:coreProperties>
</file>