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8CE-64C8-4B51-9E57-AD2401E5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708-5E88-469F-978E-584DFB20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B52-3D12-4C5B-B4E9-538C8884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F57-65C8-4EC1-AEAC-FAECDC98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C958-D14B-4C93-A534-04C580FD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CC383-D4A7-48BA-A00E-048F360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8AC5A-0F50-49A9-AEBA-B3AB948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96DCD-EEE7-4044-900B-69E78178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2B69-6782-40DD-9B5F-CFD90EC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34DD6-68A6-4073-A7C3-4F88041E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B46C2-A87B-497B-AF32-01D1E87A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FCA-2703-40AF-BA0A-3C28176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9D8EB-C3E9-4085-86A4-239D582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9C3B5-005C-4197-AEDC-EF9A3C0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1EF28-A61C-4952-A1A1-B392368C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FBB4C-4296-44B0-87C8-546F4E13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9FF2-F4A9-4075-9CDE-B53A39B0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62B-D19B-46F0-8DE6-54AEFA9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F95-6E4F-48CB-AC16-B72CB2AB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3AE-3C56-4A43-9237-0C41F7C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A5A-68B8-429C-BCB1-CB937DA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0EB-99FF-4BB4-BC0C-EE26E71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3D0-1856-4C3F-9BED-95B35C9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98B-0C81-4D50-918B-FD154D90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3C00-12F7-4525-89AE-7B9B9EAA3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9E7-7E10-4A20-92B9-3B29F419E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рби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ц. Др Татјана 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нофталму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влачење очне јабучице према позади, као да је м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изиолошки- старост, мршавост- смањење мас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толошки- тупе повреде са преломима коштаних зидова, ожиљавање после запаљења или лечења тумора у орбити, лезија вратног симпатикуса (ослабљен Милеров мишић, миоза- слаб дилататор пупиле, птоза-Клод- Бернар-Хорнеров тријас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гзофталму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овећана запремина садржаја очне дупље- велике оч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д гојазних љу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Грејвс- Базедовљева болест- лагофталмус, експозициони кератити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фективни запаљенски процеси у орби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варења у орби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термитентни- савијање главе напред, напор, копресија вена врата. Услед варикозитета вратних вена- секундарни глаук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екомпресија орби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улзирајући егзофталмус- нагли почетак, зујање у глави, пулзације- артерио-венске комуникације у кавернозном синусу измежу унутрашње каротидне артерије и кавернозног синуса- прелом базе лобање- неурохируршко лече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сеудоегзофталмус- асиметрија лица, ретракција капка, висока миопија, пареза или парализа очних мишић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ИСЛОКАЦИЈА ОЧНЕ ЈАБУЧИЦЕ-булбус померен у супротну страну од локализација тумора или неког другог процеса са смањеном покретљивошћ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Exophthalmos+-+Enophthalmos.jpg"/>
          <p:cNvPicPr/>
          <p:nvPr/>
        </p:nvPicPr>
        <p:blipFill>
          <a:blip r:embed="rId1"/>
          <a:stretch/>
        </p:blipFill>
        <p:spPr>
          <a:xfrm>
            <a:off x="1523880" y="233208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xo eno.jpg"/>
          <p:cNvPicPr/>
          <p:nvPr/>
        </p:nvPicPr>
        <p:blipFill>
          <a:blip r:embed="rId2"/>
          <a:stretch/>
        </p:blipFill>
        <p:spPr>
          <a:xfrm>
            <a:off x="1752480" y="0"/>
            <a:ext cx="50799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 обољења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мнеза- бол и брзина развоја ( тумори, запаљења, крварења, 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гзофталмометрија- по Хертелу. Растојање врха рожњаче од спољашње ивице орбите. 20м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симетрија већа од 2мм; више од 8мм-постојање тум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иомикроскопија- боја коже капака, постојање хиперемије вежњаче, проширење еписклералних крвних суд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фталмоскопија- промене на ретине или очном живцу-ст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hertel.jpg"/>
          <p:cNvPicPr/>
          <p:nvPr/>
        </p:nvPicPr>
        <p:blipFill>
          <a:blip r:embed="rId1"/>
          <a:stretch/>
        </p:blipFill>
        <p:spPr>
          <a:xfrm>
            <a:off x="7194600" y="5489640"/>
            <a:ext cx="1949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Рентгенографија орбите- прелом зидова орбите, сумња на интраорбитално страно тел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хографија орбите- откривање и праћење експанзивних процеса у орбити, без штетних последица. (обољење штитасте жлезд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-за орткивање промена у меким и коштаним структурама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уклерана магнетна резонанца- за мекоткивне пром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нгиографија-повреде, АВ фистуле, венски варикозите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паљенске болести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фективни аген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диопатски инфламаторни синдром орбите-псеудотум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фективна ет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Celullitis orbitae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утно, негнојно запа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легмона-гнојно запа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сцес- локализовано накупљање гнојне колекције у појединим деловима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Целулитис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рочник: грам позитивне стафилококе, грам негативни хемофилус инфлуенце. Синуси, носна шупљина, повреде коже капака. Ендогено ретк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а слика: оток капака без интензивног црвенила; хемотична или хиперемична вежњача, протрузија очне јабучице, болна покретљив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агностика: анамнеза. Нагло, бол, црвени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рапија: антибиотс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cellulitis 1.jpg"/>
          <p:cNvPicPr/>
          <p:nvPr/>
        </p:nvPicPr>
        <p:blipFill>
          <a:blip r:embed="rId1"/>
          <a:stretch/>
        </p:blipFill>
        <p:spPr>
          <a:xfrm>
            <a:off x="3886200" y="3581280"/>
            <a:ext cx="361944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ellulitis.jpg"/>
          <p:cNvPicPr/>
          <p:nvPr/>
        </p:nvPicPr>
        <p:blipFill>
          <a:blip r:embed="rId2"/>
          <a:stretch/>
        </p:blipFill>
        <p:spPr>
          <a:xfrm>
            <a:off x="762120" y="1676520"/>
            <a:ext cx="277164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атом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етворстрана положена пирамида са базом према напред, а врх према поз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за- 40х35мм, прекривена кап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х-удаљен од базе 40-50мм, отвор оптичког нер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ремина 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етири зида-7 кост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легмона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Узрочник: као код целулити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линичка слика: нелечени или неправилни или недовољно лечени целулитис. Интензивирани знаци целулитиса: оток и црвенило капака, хемоза вежњаче, непокретна егзофталмичн очна јабучица, проширене вене на очном дн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ОМЕЊЕНО ОПШТЕ СТАЊЕ:повишена телесна темпретаура, малаксалост, менингиз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леукоцито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мпликације: тромбоза кавернозног синуса, гнојни менингитис, паралитички страбизам, експозициони кератитис (лагофталмус), слепил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Терапија: антибиотс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псцес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а слика: после флегмоне, у завосности од величине и локализације зависи и поремећај положаја и покретљивости очне јабучице, повишена телесна темпретаура, слаби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леукоцитоза, ЦТ, НМ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 антибиотска и хируршк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absceus.gif"/>
          <p:cNvPicPr/>
          <p:nvPr/>
        </p:nvPicPr>
        <p:blipFill>
          <a:blip r:embed="rId1"/>
          <a:stretch/>
        </p:blipFill>
        <p:spPr>
          <a:xfrm>
            <a:off x="2733840" y="2290680"/>
            <a:ext cx="36763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сеудотумор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а инфилтрација меког ткива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ирење из околних структура- синуз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.слика: егзофталмус, смањена покретљивост мишића, бол у “дубини ок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а: анамнеза (нема промене општег стаља, нити промене у крв. слици), Ехо орбите, МРИ у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 кортикостероси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септални целул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ептални целулитис је честа инфекција капака и периорбиталног меког ткива, праћена еритемом и ото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ктерије, вируси, гљивице, параз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о ширење- синузитис, дакриоцититис, спољна инфекција ока, траума 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ептални целулитис→целу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птум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 при покретима ока, губитак вида, повећање едема и црвенила- напредовање процеса запаљења према дубљим деловима орб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шка деца, 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линичка слика-пресептални целулит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имптом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нјунктивит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пиф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мањење видне оштри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хроматопсија (црвено-зелен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и знац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ериорбитални еритем и едем ( у случају постојања трауме, искључити присуство страног те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Razlike kod preseptalnog I orbitalnog celulitis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00000" y="404640"/>
          <a:ext cx="7417080" cy="6240600"/>
        </p:xfrm>
        <a:graphic>
          <a:graphicData uri="http://schemas.openxmlformats.org/drawingml/2006/table">
            <a:tbl>
              <a:tblPr/>
              <a:tblGrid>
                <a:gridCol w="2471760"/>
                <a:gridCol w="2473560"/>
                <a:gridCol w="2471760"/>
              </a:tblGrid>
              <a:tr h="69552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l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ptalni celulit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ni cel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to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ut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etljiv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nj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 pri kretan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ni 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smanj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arna  reak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abnormalni pupilarni def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zacija roznj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sman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amoloskop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abnormalna, venska kongestija, edem disk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ski znac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biljno te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лиза крви-ККС, култура- позитивна тек код развоја сепс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ултура- конјунктивалног секрета, промена на кожи, садржај из сузне кеси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- реактивни проте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лтразвучни преглед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умбална пунк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но откривање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рз почетак терап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мпиријско ординирање антибиотика- инфекција респираторних путева, траума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nontypeable 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 influenza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axella catarrhal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аума-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 aure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Methicillin-resistant 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 aure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(MRSA)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ора да се искључи код перзистирања знакова инфекције и поред примењене терапиј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орњи зид (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aries superior)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пред:хоризонтални део чеоне кости; позади: мало крило сфеноидалне кости; одваја орбиту од предње лобањске јаме- чеони сину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дијални зид (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aries medialis)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чеони наставак горње виличне кости, сузна кост, етмоидална кост, предњи део бочне стране сфеноидалне кости; одваја орбиту од носне шупљине, садржи етмоидални сину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ћење тока болести- означити маркером границу промене на ко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енажа- дакриоциститис, апсцес у кожи ка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мски рад: педијатар- оториноларинголог- инфектолог- офталм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хоспитализовани пациј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анофталм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стовремено запаљење унутрашњости очне јабучице-ендофталмитис, њених омотача и садржаја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тиологија: као код целулитис или флегмо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линичка слика: смањен вид (после ендофталмитиса), отечени капци, хемоза вежњаче, протрузија,непокретан булбус, хипопион, повишена тел.темпретаура, малаксалост, повраћ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леукоцито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рапија: антибиоткса, евисцер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panophthalmitis.jpg"/>
          <p:cNvPicPr/>
          <p:nvPr/>
        </p:nvPicPr>
        <p:blipFill>
          <a:blip r:embed="rId1"/>
          <a:stretch/>
        </p:blipFill>
        <p:spPr>
          <a:xfrm>
            <a:off x="2743200" y="264312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оста врста различитог тк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имарни или секундар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Бенигни или малиг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сеудотумо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ЗВ орбите, ЦТ, НМ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линичка слика: дислокација очне јабучице, смањена покретљивост, хемоза вежњаче, бол, промењен видна оштрина, секундарни глауком,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истолошка верифик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рапија: конзилијарна одлу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orbital tumor.jpg"/>
          <p:cNvPicPr/>
          <p:nvPr/>
        </p:nvPicPr>
        <p:blipFill>
          <a:blip r:embed="rId1"/>
          <a:stretch/>
        </p:blipFill>
        <p:spPr>
          <a:xfrm>
            <a:off x="1490760" y="2643120"/>
            <a:ext cx="6162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бдомиосарком- 3-10 година старости; унилатрална протрузија, брз ток; хистолошка верификација; цитостатици и зрачна терапија, евентуално хирурш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уробластом- секундарни тумор; брзо напредујућа протрузија, оток капака, хемоза вежњаче; ЦТ ретроперитонеума,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натано повалачење...хируршки уколико угрожава вид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одрасл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сеудотумори-хистолошка верификација- лечење:конзервати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ро прогресивна лезија- ЦТ НМР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лимфом орбите- хематолог и биопсија- цитостатск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тогене метастазе- карцином дојке, бронха, меланом 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Нон Хочкинов лимфом-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6000" spc="-1" strike="noStrike">
                <a:solidFill>
                  <a:srgbClr val="000000"/>
                </a:solidFill>
                <a:latin typeface="Calibri"/>
              </a:rPr>
              <a:t>Хвала на пажњи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њи зид (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aries inferior)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горња вилица, зигоматична кост, орбитални наставак непчане кости: одваја орбиту од максиларног си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атерални зид (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aries lateralis)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игоматична кост велико крило сфеноидлане кости, зигоматични наставак чеоне кости; најдебљи и најчвршћи з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Врх-отвор оптичког нерва који се наставља на оптички канал- оптички нерв и офталмичка артер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Горња орбитална пукотина- средња лобањска јама- 3., 6. кранијални нерв;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phthalmicus-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orntalis, 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acrimalis, 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asociliaris;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з орбите према кавернозном синусу иде горња офталмичка ве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ња орбитална пукотина- са инфратемпоралном и птеригопалатинском јамом-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nfraorbitalis, n.zygomatic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Горњи медијални зид- предњи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(a.ethmoidlaes ant, n.ethmoidlaes ant)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и задњи етмоидални отвор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(a.ethmoidlaes post, n.ethmoidlaes pos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26e3b744d501d98740390d1090c86216--orbit-anat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адржај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чна јабучица- 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тички не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шићи покретачи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зна жлез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сно тк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рви, крвни и лимфни суд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ложај очне јабучице у орби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конусу очних мишића, који је са свих страна обавијен масним тки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офталм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гзофталмус-једностран, обостран, интермитентни, пулзирајући, псеудоегзофталм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orbita.jpg"/>
          <p:cNvPicPr/>
          <p:nvPr/>
        </p:nvPicPr>
        <p:blipFill>
          <a:blip r:embed="rId1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Windows User</cp:lastModifiedBy>
  <dcterms:modified xsi:type="dcterms:W3CDTF">2020-09-26T16:09:27Z</dcterms:modified>
  <cp:revision>29</cp:revision>
  <dc:subject/>
  <dc:title>Орбита</dc:title>
</cp:coreProperties>
</file>